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22309-8CC5-4596-AE4F-D048AACD3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5118F-8451-4EBB-B58B-3BFD3AC1B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D4760-BD8C-43D0-9691-4A581AE36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6C80C-9505-4B01-AC51-52ACE2042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F3BFAD-F867-46FB-ADC1-5326358FE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277F6-C297-4B3F-A920-C0DAA60BC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ADAF3-E40F-4B99-8146-894B3C393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CD756-4322-43C7-99CC-AD69E2391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AEE8C-7DE2-489E-890C-95127F791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00856-4A53-4846-B0BB-9A4A45FDD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397E8-BB21-4190-9CF4-9294EACAC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D9A90-01DF-4FCF-8F67-5A9822B70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A04E2-E5DD-4156-86B6-3C982EBB8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DD8E6-5EE6-4EBC-953C-DFD880477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3D877-E907-4946-89E4-3E1A5DFFC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50B9F6-EF90-4C31-934B-A2367DC00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DF3531-8DF0-44B7-B687-12810C536A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FDD4973-20DB-4651-940A-85EEB67FCB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4378AA7-C946-4107-83B4-99FC87F01C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ABB51FC-5FD9-4C09-90BD-8F634D18B9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635EA10-D03B-48FD-93E8-8B6B0CB2C5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02D43E1-8EC1-4DEB-8DFB-85480FD4B3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9E639-126B-4AE4-B86D-10C5C7540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A401297-1F5C-45C3-8B86-0E9FD36DCC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F9967C-EA7A-41B2-9D6C-C3ECE22AE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7B66A71-DF4C-4E2B-BF9F-18CA92DAA4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B37C7ED-22C6-49EC-B1CD-66906FCF7F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4681382-68EE-4FF6-8B1B-DD861F5809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1788B89-AF68-4BE4-9F05-AB4C15F920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2AD9BD4-6739-4115-A3F3-765D5E4612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5AF02E-286C-404D-A5A9-E4667E6C1D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7035E3-301A-4D36-A670-B3F64D9786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78C3C5-445F-4DFA-BE64-3EBE993936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7F0C1-302E-4396-9403-D8596F7F4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8A32E9-F2BE-40B7-8A76-D9BF510BC0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30A6CC-2EC9-4E8C-A342-0820264E04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BF0FAF-3124-48D3-B631-E520DFE1A2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43EA7A-218C-4BE7-BC50-89CD94B28B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6CAEF3-C475-4E88-AFB2-580045D9D2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AAD9DD-80FE-4CA8-8910-C1C1454403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7E7B34-4A04-4F6C-B364-0E2DCB0C75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E5B89A-C3D5-4F19-8657-76846834E8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20106A-04DC-486D-B86A-A810089809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06318EE-E679-4171-B907-CFEDA14FC8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316B4-16FA-4922-AFB0-04221102F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5520C80-A81F-429A-A5F2-9EBCB540AE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2823C71-ED7C-4DAD-A307-A8FF2D0091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01243C9-B4E0-46A0-8841-EB3353E995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612687F-26D7-410F-B793-41D06B5B3C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54E9318-02BC-4195-BFAC-D2813C08A6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38C49E-7B1E-4CE6-90EE-BE077F9A4A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A765944-EF95-4F7A-8798-EE8B1745D1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892F543-A0D3-4253-B990-960C4A4AE3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2707053-2E5B-47E5-99E2-551C92F6D2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792D2F5-7328-4E23-A4C4-F866527FDC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E526D-57BD-428E-B894-9B54DC839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75B2E6D-2E8F-455D-85B0-8BAA370455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A13251-D909-436E-8A34-7FB381EDE1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EF9C90-E1FA-41D6-8D6E-5CB2700FDB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4779BD-4E3E-44A9-BDC8-3A9E335C48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B4E9E8-D89F-4013-A7BE-F00D1AE279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4D2D8D-937A-4580-8F80-670753D367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9E910C-83A6-49B2-9A80-38A139E8CD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A2F9FF-59AF-4ED8-B216-9EFF3BF4C1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E10F4C-1807-4511-BE10-CD974A51BC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D0BD83-4C03-4AA5-8E28-9A7AEA9418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5D46E-8FCD-448E-AB27-65C131D0D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FBD2E6-EA01-483D-8E6B-2057A55C2B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7C0BDD-7030-421D-BD8F-97F7206747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531271-6899-4996-91A0-E183D1502E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E8E1C-54A5-4A7D-9FDA-C724BF5ED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E94BC-020E-4B1F-A897-F5089531E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60A0-D753-414F-BB4E-6C1619592614}" type="datetime">
              <a:rPr b="0" lang="it-IT" sz="1400" spc="-1" strike="noStrike">
                <a:solidFill>
                  <a:srgbClr val="775f55"/>
                </a:solidFill>
                <a:latin typeface="Calibri"/>
              </a:rPr>
              <a:t>29/07/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
        <p:nvSpPr>
          <p:cNvPr id="4" name="Rettangolo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Rettangolo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Rettangolo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5B3B-3ED9-4DBD-8085-1D62FED36604}" type="slidenum">
              <a:rPr b="1" lang="it-IT" sz="1400" spc="-1" strike="noStrike">
                <a:solidFill>
                  <a:srgbClr val="ffffff"/>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ttangolo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ttangolo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ettangolo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0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E6EC-3FB3-45C7-8D38-7E63FAD755D3}" type="datetime">
              <a:rPr b="0" lang="it-IT" sz="2000" spc="-1" strike="noStrike">
                <a:solidFill>
                  <a:srgbClr val="ffffff"/>
                </a:solidFill>
                <a:latin typeface="Calibri"/>
              </a:rPr>
              <a:t>29/07/26</a:t>
            </a:fld>
            <a:endParaRPr b="0" lang="en-US" sz="2000" spc="-1" strike="noStrike">
              <a:solidFill>
                <a:srgbClr val="000000"/>
              </a:solidFill>
              <a:latin typeface="Calibri"/>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bddc3"/>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bddc3"/>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ebddc3"/>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7781D-F23A-4FBF-84E8-94E2A722560F}" type="slidenum">
              <a:rPr b="1" lang="it-IT" sz="1400" spc="-1" strike="noStrike">
                <a:solidFill>
                  <a:srgbClr val="ebddc3"/>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ttangolo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ettangolo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Rettangolo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141D-926C-4D1B-BC57-494A8B8A418A}" type="datetime">
              <a:rPr b="0" lang="it-IT" sz="1400" spc="-1" strike="noStrike">
                <a:solidFill>
                  <a:srgbClr val="775f55"/>
                </a:solidFill>
                <a:latin typeface="Calibri"/>
              </a:rPr>
              <a:t>29/07/26</a:t>
            </a:fld>
            <a:endParaRPr b="0" lang="en-US" sz="1400" spc="-1" strike="noStrike">
              <a:solidFill>
                <a:srgbClr val="000000"/>
              </a:solidFill>
              <a:latin typeface="Calibri"/>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1B67-8702-43A9-9A35-69412E2E1F66}" type="slidenum">
              <a:rPr b="1" lang="it-IT" sz="2400" spc="-1" strike="noStrike">
                <a:solidFill>
                  <a:srgbClr val="ffffff"/>
                </a:solidFill>
                <a:latin typeface="Calibri"/>
              </a:rPr>
              <a:t>&lt;number&gt;</a:t>
            </a:fld>
            <a:endParaRPr b="0" lang="en-US" sz="2400" spc="-1" strike="noStrike">
              <a:solidFill>
                <a:srgbClr val="000000"/>
              </a:solidFill>
              <a:latin typeface="Calibri"/>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4"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DEC0-C3D3-4266-8CAC-DE1EB1FA3D3B}" type="datetime">
              <a:rPr b="0" lang="it-IT" sz="1400" spc="-1" strike="noStrike">
                <a:solidFill>
                  <a:srgbClr val="775f55"/>
                </a:solidFill>
                <a:latin typeface="Calibri"/>
              </a:rPr>
              <a:t>29/07/26</a:t>
            </a:fld>
            <a:endParaRPr b="0" lang="en-US" sz="1400" spc="-1" strike="noStrike">
              <a:solidFill>
                <a:srgbClr val="000000"/>
              </a:solidFill>
              <a:latin typeface="Calibri"/>
            </a:endParaRPr>
          </a:p>
        </p:txBody>
      </p:sp>
      <p:sp>
        <p:nvSpPr>
          <p:cNvPr id="135" name="PlaceHolder 4"/>
          <p:cNvSpPr>
            <a:spLocks noGrp="1"/>
          </p:cNvSpPr>
          <p:nvPr>
            <p:ph type="ftr" idx="11"/>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
        <p:nvSpPr>
          <p:cNvPr id="136" name="PlaceHolder 5"/>
          <p:cNvSpPr>
            <a:spLocks noGrp="1"/>
          </p:cNvSpPr>
          <p:nvPr>
            <p:ph type="sldNum" idx="12"/>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775f55"/>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09027-D3BD-46C3-B708-1039E34C52F7}" type="slidenum">
              <a:rPr b="1" lang="it-IT" sz="1400" spc="-1" strike="noStrike">
                <a:solidFill>
                  <a:srgbClr val="775f55"/>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Rettangolo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Rettangolo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ttangolo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ttangolo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79" name="PlaceHolder 3"/>
          <p:cNvSpPr>
            <a:spLocks noGrp="1"/>
          </p:cNvSpPr>
          <p:nvPr>
            <p:ph type="dt" idx="13"/>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85F5-B92D-4ED4-AA63-8EB7E0030A6E}" type="datetime">
              <a:rPr b="0" lang="it-IT" sz="1400" spc="-1" strike="noStrike">
                <a:solidFill>
                  <a:srgbClr val="775f55"/>
                </a:solidFill>
                <a:latin typeface="Calibri"/>
              </a:rPr>
              <a:t>29/07/26</a:t>
            </a:fld>
            <a:endParaRPr b="0" lang="en-US" sz="1400" spc="-1" strike="noStrike">
              <a:solidFill>
                <a:srgbClr val="000000"/>
              </a:solidFill>
              <a:latin typeface="Calibri"/>
            </a:endParaRPr>
          </a:p>
        </p:txBody>
      </p:sp>
      <p:sp>
        <p:nvSpPr>
          <p:cNvPr id="180" name="PlaceHolder 4"/>
          <p:cNvSpPr>
            <a:spLocks noGrp="1"/>
          </p:cNvSpPr>
          <p:nvPr>
            <p:ph type="sldNum" idx="14"/>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C12F-35EE-43CF-80BD-290365EAD3B2}" type="slidenum">
              <a:rPr b="1" lang="it-IT" sz="2800" spc="-1" strike="noStrike">
                <a:solidFill>
                  <a:srgbClr val="ffffff"/>
                </a:solidFill>
                <a:latin typeface="Calibri"/>
              </a:rPr>
              <a:t>&lt;number&gt;</a:t>
            </a:fld>
            <a:endParaRPr b="0" lang="en-US" sz="2800" spc="-1" strike="noStrike">
              <a:solidFill>
                <a:srgbClr val="000000"/>
              </a:solidFill>
              <a:latin typeface="Calibri"/>
            </a:endParaRPr>
          </a:p>
        </p:txBody>
      </p:sp>
      <p:sp>
        <p:nvSpPr>
          <p:cNvPr id="181" name="PlaceHolder 5"/>
          <p:cNvSpPr>
            <a:spLocks noGrp="1"/>
          </p:cNvSpPr>
          <p:nvPr>
            <p:ph type="ftr" idx="15"/>
          </p:nvPr>
        </p:nvSpPr>
        <p:spPr>
          <a:xfrm>
            <a:off x="1600200" y="6248520"/>
            <a:ext cx="4572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ttangolo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ettangolo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Rettangolo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3" name="PlaceHolder 3"/>
          <p:cNvSpPr>
            <a:spLocks noGrp="1"/>
          </p:cNvSpPr>
          <p:nvPr>
            <p:ph type="dt" idx="16"/>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FB06-5D30-4FD0-8FBC-87D0507FAE3E}" type="datetime">
              <a:rPr b="0" lang="it-IT" sz="1400" spc="-1" strike="noStrike">
                <a:solidFill>
                  <a:srgbClr val="775f55"/>
                </a:solidFill>
                <a:latin typeface="Calibri"/>
              </a:rPr>
              <a:t>29/07/26</a:t>
            </a:fld>
            <a:endParaRPr b="0" lang="en-US" sz="1400" spc="-1" strike="noStrike">
              <a:solidFill>
                <a:srgbClr val="000000"/>
              </a:solidFill>
              <a:latin typeface="Calibri"/>
            </a:endParaRPr>
          </a:p>
        </p:txBody>
      </p:sp>
      <p:sp>
        <p:nvSpPr>
          <p:cNvPr id="224" name="PlaceHolder 4"/>
          <p:cNvSpPr>
            <a:spLocks noGrp="1"/>
          </p:cNvSpPr>
          <p:nvPr>
            <p:ph type="ftr" idx="17"/>
          </p:nvPr>
        </p:nvSpPr>
        <p:spPr>
          <a:xfrm>
            <a:off x="456840" y="6248520"/>
            <a:ext cx="557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
        <p:nvSpPr>
          <p:cNvPr id="225" name="PlaceHolder 5"/>
          <p:cNvSpPr>
            <a:spLocks noGrp="1"/>
          </p:cNvSpPr>
          <p:nvPr>
            <p:ph type="sldNum" idx="18"/>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EAB1-B2E1-4433-AA47-58748591ED63}" type="slidenum">
              <a:rPr b="1" lang="it-IT" sz="1400" spc="-1" strike="noStrike">
                <a:solidFill>
                  <a:srgbClr val="ffffff"/>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miur.gov.it/web/guest/news/-/asset_publisher/ubIwoWFcqWhG/content/istruzione-degli-adulti-e-apprendimento-permanente-avvio-iii-annualita-del-progetto-edufincpia-trasmissione-linee-guida-iii-edizione-a-s-2018-20-1?inheritRedirect=false&amp;redirect=https://www.miur.gov.it:443/web/guest/news?p_p_id=101_INSTANCE_ubIwoWFcqWhG&amp;p_p_lifecycle=0&amp;p_p_state=normal&amp;p_p_mode=view&amp;p_p_col_id=column-2&amp;p_p_col_count=1&amp;p_r_p_564233524_categoryId=8868460&amp;p_r_p_564233524_resetCur=tru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188640"/>
            <a:ext cx="81536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63" name=""/>
          <p:cNvSpPr txBox="1"/>
          <p:nvPr/>
        </p:nvSpPr>
        <p:spPr>
          <a:xfrm>
            <a:off x="539280" y="1628280"/>
            <a:ext cx="8153640" cy="4496040"/>
          </a:xfrm>
          <a:prstGeom prst="rect">
            <a:avLst/>
          </a:prstGeom>
          <a:noFill/>
          <a:ln w="0">
            <a:noFill/>
          </a:ln>
        </p:spPr>
        <p:txBody>
          <a:bodyPr anchor="t">
            <a:normAutofit fontScale="90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ITER PROGETTO </a:t>
            </a:r>
            <a:endParaRPr b="0" lang="en-US" sz="1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 il Decreto Direttoriale n. 1329 del 2 ottobre 2018, acquisite le designazioni degli UUSSRR e dell’INDIRE, è stato aggiornato e ricostituito nei compiti il Gruppo di Lavoro Nazionale P.A.I.DE.I.A., coordinato dal Dirigente Tecnico Sebastian Amelio. Con il suddetto decreto, fra l’altro, sono state integrate le competenze del Gruppo di Lavoro Nazionale P.A.I.DE.I.A. con quelle del Comitato Tecnico Nazionale Edufin di cui al decreto 68/2017, secondo la decisione condivisa nel corso dell’incontro del suddetto Comitato Tecnico Nazionale Edufin del 14 giugno 2018.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In data 4 ottobre 2018 si è insediato il nuovo Gruppo di Lavoro Nazionale P.A.I.DE.I.A. Nel corso dell’incontro è stato, fra l’altro, presentato il Monitoraggio  EDUFIN-CPIA a cura dell’USR Toscana.</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Con </a:t>
            </a:r>
            <a:r>
              <a:rPr b="1" lang="it-IT" sz="1200" spc="-1" strike="noStrike">
                <a:solidFill>
                  <a:srgbClr val="000000"/>
                </a:solidFill>
                <a:latin typeface="Tw Cen MT"/>
              </a:rPr>
              <a:t>nota prot. n. 18171 del 23 ottobre 2018</a:t>
            </a:r>
            <a:r>
              <a:rPr b="0" lang="it-IT" sz="1200" spc="-1" strike="noStrike">
                <a:solidFill>
                  <a:srgbClr val="000000"/>
                </a:solidFill>
                <a:latin typeface="Tw Cen MT"/>
              </a:rPr>
              <a:t>, ad esito dell’incontro del 4 ottobre 2018 e successive interlocuzioni, </a:t>
            </a:r>
            <a:r>
              <a:rPr b="1" lang="it-IT" sz="1200" spc="-1" strike="noStrike">
                <a:solidFill>
                  <a:srgbClr val="000000"/>
                </a:solidFill>
                <a:latin typeface="Tw Cen MT"/>
              </a:rPr>
              <a:t>la DGOSV ha richiamato agli Uffici Scolastici Regionali</a:t>
            </a:r>
            <a:r>
              <a:rPr b="0" lang="it-IT" sz="1200" spc="-1" strike="noStrike">
                <a:solidFill>
                  <a:srgbClr val="000000"/>
                </a:solidFill>
                <a:latin typeface="Tw Cen MT"/>
              </a:rPr>
              <a:t> le decisioni assunte in occasione dell’incontro medesimo. In particolare </a:t>
            </a:r>
            <a:r>
              <a:rPr b="1" lang="it-IT" sz="1200" spc="-1" strike="noStrike">
                <a:solidFill>
                  <a:srgbClr val="000000"/>
                </a:solidFill>
                <a:latin typeface="Tw Cen MT"/>
              </a:rPr>
              <a:t>la richiesta di comunicare l’adesione al Progetto Edufin CPIA per l’a.s. 2018/2019 con l’indicazione dei CPIA partecipanti e il numero dei docenti delle classi di concorso A45 e A46 assegnati.</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il D.M. n. 721 del 14 novembre 2018 [art. 4, comma 2, lett. b)] sono stati destinati 250.000,00 euro alla promozione dell'educazione finanziaria per gli adulti</a:t>
            </a:r>
            <a:r>
              <a:rPr b="0" lang="it-IT" sz="1200" spc="-1" strike="noStrike">
                <a:solidFill>
                  <a:srgbClr val="000000"/>
                </a:solidFill>
                <a:latin typeface="Tw Cen MT"/>
              </a:rPr>
              <a:t> nei CPIA aderenti al </a:t>
            </a:r>
            <a:r>
              <a:rPr b="1" lang="it-IT" sz="1200" spc="-1" strike="noStrike">
                <a:solidFill>
                  <a:srgbClr val="000000"/>
                </a:solidFill>
                <a:latin typeface="Tw Cen MT"/>
              </a:rPr>
              <a:t>Progetto EDUFIN-CPIA</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In data 14 dicembre 2018, in occasione dell’ incontro del Gruppo di Lavoro Nazionale P.A.I.DE.I.A., sono stati presentati gli esiti del monitoraggio del Progetto Edufin CPIA per l’a.s. 2017/2018 - a cura dell’USR Toscana</a:t>
            </a:r>
            <a:r>
              <a:rPr b="0" lang="it-IT" sz="1200" spc="-1" strike="noStrike">
                <a:solidFill>
                  <a:srgbClr val="000000"/>
                </a:solidFill>
                <a:latin typeface="Tw Cen MT"/>
              </a:rPr>
              <a:t> </a:t>
            </a:r>
            <a:r>
              <a:rPr b="1" lang="it-IT" sz="1200" spc="-1" strike="noStrike">
                <a:solidFill>
                  <a:srgbClr val="000000"/>
                </a:solidFill>
                <a:latin typeface="Tw Cen MT"/>
              </a:rPr>
              <a:t>– relativi all’efficacia delle cinque UDA</a:t>
            </a:r>
            <a:r>
              <a:rPr b="0" lang="it-IT" sz="1200" spc="-1" strike="noStrike">
                <a:solidFill>
                  <a:srgbClr val="000000"/>
                </a:solidFill>
                <a:latin typeface="Tw Cen MT"/>
              </a:rPr>
              <a:t> (definite nelle Linee Guida) declinata secondo i tre indicatori condivisi nell’ambito del Gruppo di Lavoro Nazionale P.A.I.DE.I.A. (non pertinente: con un grado di difficoltà sovradimensionato rispetto al livello del percorso; non significativa: non direttamente influente per il conseguimento della competenza collegata; non congruente: non compatibile con il monte ore previsto); nonché la proposta di aggiornamento – a cura dell’USR Emilia Romagna - delle Linee Guida del progetto Edufin CPIA per l’a.s. 2018/2019, redatta sulla base delle osservazioni prodotte dai componenti il Gruppo di Lavoro Nazionale P.A.I.DE.I.A.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a:t>
            </a: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264"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93" name=""/>
          <p:cNvSpPr txBox="1"/>
          <p:nvPr/>
        </p:nvSpPr>
        <p:spPr>
          <a:xfrm>
            <a:off x="539280" y="1628280"/>
            <a:ext cx="8153640" cy="449604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w Cen MT"/>
              </a:rPr>
              <a:t>Considerazioni generali </a:t>
            </a:r>
            <a:endParaRPr b="0" lang="en-US" sz="18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Il Progetto Edufin-CPIA costituisce un quadro di riferimento comune italiano dell’Educazione finanziaria per gli adulti.</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ualizzazione: </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riferimenti a </a:t>
            </a:r>
            <a:r>
              <a:rPr b="1" lang="it-IT" sz="1200" spc="-1" strike="noStrike">
                <a:solidFill>
                  <a:srgbClr val="000000"/>
                </a:solidFill>
                <a:latin typeface="Tw Cen MT"/>
              </a:rPr>
              <a:t>indagini nazionali ed internazionali sui fabbisogni di alfabetizzazione finanziaria della popolazione italiana</a:t>
            </a:r>
            <a:r>
              <a:rPr b="0" lang="it-IT" sz="1200" spc="-1" strike="noStrike">
                <a:solidFill>
                  <a:srgbClr val="000000"/>
                </a:solidFill>
                <a:latin typeface="Tw Cen MT"/>
              </a:rPr>
              <a:t>; a cura di Istituzioni qualificate (OCSE, Consob, Banca d’Italia, IVASS, Feduf …); </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affermazione della </a:t>
            </a:r>
            <a:r>
              <a:rPr b="1" lang="it-IT" sz="1200" spc="-1" strike="noStrike">
                <a:solidFill>
                  <a:srgbClr val="000000"/>
                </a:solidFill>
                <a:latin typeface="Tw Cen MT"/>
              </a:rPr>
              <a:t>dimensione etica </a:t>
            </a:r>
            <a:r>
              <a:rPr b="0" lang="it-IT" sz="1200" spc="-1" strike="noStrike">
                <a:solidFill>
                  <a:srgbClr val="000000"/>
                </a:solidFill>
                <a:latin typeface="Tw Cen MT"/>
              </a:rPr>
              <a:t>dell’educazione finanziaria.</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nserimento organico nel </a:t>
            </a:r>
            <a:r>
              <a:rPr b="1" lang="it-IT" sz="1200" spc="-1" strike="noStrike">
                <a:solidFill>
                  <a:srgbClr val="000000"/>
                </a:solidFill>
                <a:latin typeface="Tw Cen MT"/>
              </a:rPr>
              <a:t>Piano nazionale di garanzia delle competenze;</a:t>
            </a: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riferimenti a: </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Agenda 2030 </a:t>
            </a:r>
            <a:r>
              <a:rPr b="0" lang="it-IT" sz="1200" spc="-1" strike="noStrike">
                <a:solidFill>
                  <a:srgbClr val="000000"/>
                </a:solidFill>
                <a:latin typeface="Tw Cen MT"/>
              </a:rPr>
              <a:t>per lo Sviluppo Sostenibile</a:t>
            </a:r>
            <a:r>
              <a:rPr b="1"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Raccomandazione del Consiglio  d’Europa sulle competenze chiave per l’apprendimento permanente </a:t>
            </a:r>
            <a:r>
              <a:rPr b="0" lang="it-IT" sz="1200" spc="-1" strike="noStrike">
                <a:solidFill>
                  <a:srgbClr val="000000"/>
                </a:solidFill>
                <a:latin typeface="Tw Cen MT"/>
              </a:rPr>
              <a:t>- 22 maggio 2018</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294"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96" name=""/>
          <p:cNvSpPr txBox="1"/>
          <p:nvPr/>
        </p:nvSpPr>
        <p:spPr>
          <a:xfrm>
            <a:off x="539280" y="1628280"/>
            <a:ext cx="8153640" cy="4496040"/>
          </a:xfrm>
          <a:prstGeom prst="rect">
            <a:avLst/>
          </a:prstGeom>
          <a:noFill/>
          <a:ln w="0">
            <a:noFill/>
          </a:ln>
        </p:spPr>
        <p:txBody>
          <a:bodyPr anchor="t">
            <a:normAutofit fontScale="90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w Cen MT"/>
              </a:rPr>
              <a:t>Considerazioni generali </a:t>
            </a:r>
            <a:endParaRPr b="0" lang="en-US" sz="1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l Progetto è stato articolato in </a:t>
            </a:r>
            <a:r>
              <a:rPr b="1" lang="it-IT" sz="1200" spc="-1" strike="noStrike">
                <a:solidFill>
                  <a:srgbClr val="000000"/>
                </a:solidFill>
                <a:latin typeface="Tw Cen MT"/>
              </a:rPr>
              <a:t>UDA e Competenz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Le </a:t>
            </a:r>
            <a:r>
              <a:rPr b="1" lang="it-IT" sz="1200" spc="-1" strike="noStrike">
                <a:solidFill>
                  <a:srgbClr val="000000"/>
                </a:solidFill>
                <a:latin typeface="Tw Cen MT"/>
              </a:rPr>
              <a:t>UDA</a:t>
            </a: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individuale: </a:t>
            </a:r>
            <a:r>
              <a:rPr b="1" lang="it-IT" sz="1200" spc="-1" strike="noStrike">
                <a:solidFill>
                  <a:srgbClr val="000000"/>
                </a:solidFill>
                <a:latin typeface="Tw Cen MT"/>
              </a:rPr>
              <a:t>Danaro e transazioni</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casa e famiglia: </a:t>
            </a:r>
            <a:r>
              <a:rPr b="1" lang="it-IT" sz="1200" spc="-1" strike="noStrike">
                <a:solidFill>
                  <a:srgbClr val="000000"/>
                </a:solidFill>
                <a:latin typeface="Tw Cen MT"/>
              </a:rPr>
              <a:t>Pianificazione e gestione delle finanze</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casa e famiglia:</a:t>
            </a:r>
            <a:r>
              <a:rPr b="1" lang="it-IT" sz="1200" spc="-1" strike="noStrike">
                <a:solidFill>
                  <a:srgbClr val="000000"/>
                </a:solidFill>
                <a:latin typeface="Tw Cen MT"/>
              </a:rPr>
              <a:t> Rischio e rendiment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Educazione e lavoro:</a:t>
            </a:r>
            <a:r>
              <a:rPr b="1" lang="it-IT" sz="1200" spc="-1" strike="noStrike">
                <a:solidFill>
                  <a:srgbClr val="000000"/>
                </a:solidFill>
                <a:latin typeface="Tw Cen MT"/>
              </a:rPr>
              <a:t> Ambiente finanziari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Sociale:</a:t>
            </a:r>
            <a:r>
              <a:rPr b="1" lang="it-IT" sz="1200" spc="-1" strike="noStrike">
                <a:solidFill>
                  <a:srgbClr val="000000"/>
                </a:solidFill>
                <a:latin typeface="Tw Cen MT"/>
              </a:rPr>
              <a:t> Ambiente finanziari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mpetenze individuate e descritte in conoscenze e abilità</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Per definire l’assetto didattico</a:t>
            </a:r>
            <a:r>
              <a:rPr b="0" lang="it-IT" sz="1200" spc="-1" strike="noStrike">
                <a:solidFill>
                  <a:srgbClr val="000000"/>
                </a:solidFill>
                <a:latin typeface="Tw Cen MT"/>
              </a:rPr>
              <a:t> del Progetto di educazione finanziaria nei CPIA </a:t>
            </a:r>
            <a:r>
              <a:rPr b="1" lang="it-IT" sz="1200" spc="-1" strike="noStrike">
                <a:solidFill>
                  <a:srgbClr val="000000"/>
                </a:solidFill>
                <a:latin typeface="Tw Cen MT"/>
              </a:rPr>
              <a:t>sono state prese in considerazione</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le </a:t>
            </a:r>
            <a:r>
              <a:rPr b="1" lang="it-IT" sz="1200" spc="-1" strike="noStrike">
                <a:solidFill>
                  <a:srgbClr val="000000"/>
                </a:solidFill>
                <a:latin typeface="Tw Cen MT"/>
              </a:rPr>
              <a:t>competenze, le conoscenze e le abilità dell’Asse Storico Sociale dei percorsi di primo livello e dell’Asse storico-sociale ed economico dei percorsi di secondo livello,</a:t>
            </a:r>
            <a:r>
              <a:rPr b="0" lang="it-IT" sz="1200" spc="-1" strike="noStrike">
                <a:solidFill>
                  <a:srgbClr val="000000"/>
                </a:solidFill>
                <a:latin typeface="Tw Cen MT"/>
              </a:rPr>
              <a:t> come definite dal DI 12 marzo 2015 e dalle Direttive 57 e 65 del 2010;</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le competenze, le conoscenze e le abilità, come da “Quadro di riferimento analitico financial literacy” di OCSE 2013</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le </a:t>
            </a:r>
            <a:r>
              <a:rPr b="1" lang="it-IT" sz="1200" spc="-1" strike="noStrike">
                <a:solidFill>
                  <a:srgbClr val="000000"/>
                </a:solidFill>
                <a:latin typeface="Tw Cen MT"/>
              </a:rPr>
              <a:t>competenze chiave di cittadinanza</a:t>
            </a:r>
            <a:r>
              <a:rPr b="0" lang="it-IT" sz="1200" spc="-1" strike="noStrike">
                <a:solidFill>
                  <a:srgbClr val="000000"/>
                </a:solidFill>
                <a:latin typeface="Tw Cen MT"/>
              </a:rPr>
              <a:t> del DM 139/2007.</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297"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99" name=""/>
          <p:cNvSpPr txBox="1"/>
          <p:nvPr/>
        </p:nvSpPr>
        <p:spPr>
          <a:xfrm>
            <a:off x="539280" y="1628280"/>
            <a:ext cx="8153640" cy="4496040"/>
          </a:xfrm>
          <a:prstGeom prst="rect">
            <a:avLst/>
          </a:prstGeom>
          <a:noFill/>
          <a:ln w="0">
            <a:noFill/>
          </a:ln>
        </p:spPr>
        <p:txBody>
          <a:bodyPr anchor="t">
            <a:normAutofit fontScale="90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w Cen MT"/>
              </a:rPr>
              <a:t>Considerazioni generali </a:t>
            </a:r>
            <a:endParaRPr b="0" lang="en-US" sz="1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l Progetto è stato articolato in </a:t>
            </a:r>
            <a:r>
              <a:rPr b="1" lang="it-IT" sz="1200" spc="-1" strike="noStrike">
                <a:solidFill>
                  <a:srgbClr val="000000"/>
                </a:solidFill>
                <a:latin typeface="Tw Cen MT"/>
              </a:rPr>
              <a:t>Unità Di Apprendimento e Competenz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Le </a:t>
            </a:r>
            <a:r>
              <a:rPr b="1" lang="it-IT" sz="1200" spc="-1" strike="noStrike">
                <a:solidFill>
                  <a:srgbClr val="000000"/>
                </a:solidFill>
                <a:latin typeface="Tw Cen MT"/>
              </a:rPr>
              <a:t>UDA</a:t>
            </a: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individuale: </a:t>
            </a:r>
            <a:r>
              <a:rPr b="1" lang="it-IT" sz="1200" spc="-1" strike="noStrike">
                <a:solidFill>
                  <a:srgbClr val="000000"/>
                </a:solidFill>
                <a:latin typeface="Tw Cen MT"/>
              </a:rPr>
              <a:t>Danaro e transazioni</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casa e famiglia: </a:t>
            </a:r>
            <a:r>
              <a:rPr b="1" lang="it-IT" sz="1200" spc="-1" strike="noStrike">
                <a:solidFill>
                  <a:srgbClr val="000000"/>
                </a:solidFill>
                <a:latin typeface="Tw Cen MT"/>
              </a:rPr>
              <a:t>Pianificazione e gestione delle finanze</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casa e famiglia:</a:t>
            </a:r>
            <a:r>
              <a:rPr b="1" lang="it-IT" sz="1200" spc="-1" strike="noStrike">
                <a:solidFill>
                  <a:srgbClr val="000000"/>
                </a:solidFill>
                <a:latin typeface="Tw Cen MT"/>
              </a:rPr>
              <a:t> Rischio e rendiment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Educazione e lavoro:</a:t>
            </a:r>
            <a:r>
              <a:rPr b="1" lang="it-IT" sz="1200" spc="-1" strike="noStrike">
                <a:solidFill>
                  <a:srgbClr val="000000"/>
                </a:solidFill>
                <a:latin typeface="Tw Cen MT"/>
              </a:rPr>
              <a:t> Ambiente finanziari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Sociale:</a:t>
            </a:r>
            <a:r>
              <a:rPr b="1" lang="it-IT" sz="1200" spc="-1" strike="noStrike">
                <a:solidFill>
                  <a:srgbClr val="000000"/>
                </a:solidFill>
                <a:latin typeface="Tw Cen MT"/>
              </a:rPr>
              <a:t> Ambiente finanziari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mpetenze individuate e descritte in conoscenze e abilità</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Per definire l’assetto didattico</a:t>
            </a:r>
            <a:r>
              <a:rPr b="0" lang="it-IT" sz="1200" spc="-1" strike="noStrike">
                <a:solidFill>
                  <a:srgbClr val="000000"/>
                </a:solidFill>
                <a:latin typeface="Tw Cen MT"/>
              </a:rPr>
              <a:t> del Progetto di educazione finanziaria nei CPIA </a:t>
            </a:r>
            <a:r>
              <a:rPr b="1" lang="it-IT" sz="1200" spc="-1" strike="noStrike">
                <a:solidFill>
                  <a:srgbClr val="000000"/>
                </a:solidFill>
                <a:latin typeface="Tw Cen MT"/>
              </a:rPr>
              <a:t>sono state prese in considerazione</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le </a:t>
            </a:r>
            <a:r>
              <a:rPr b="1" lang="it-IT" sz="1200" spc="-1" strike="noStrike">
                <a:solidFill>
                  <a:srgbClr val="000000"/>
                </a:solidFill>
                <a:latin typeface="Tw Cen MT"/>
              </a:rPr>
              <a:t>competenze, le conoscenze e le abilità dell’Asse Storico Sociale dei percorsi di primo livello e dell’Asse storico-sociale ed economico dei percorsi di secondo livello,</a:t>
            </a:r>
            <a:r>
              <a:rPr b="0" lang="it-IT" sz="1200" spc="-1" strike="noStrike">
                <a:solidFill>
                  <a:srgbClr val="000000"/>
                </a:solidFill>
                <a:latin typeface="Tw Cen MT"/>
              </a:rPr>
              <a:t> come definite dal DI 12 marzo 2015 e dalle Direttive 57 e 65 del 2010;</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le competenze, le conoscenze e le abilità, come da “Quadro di riferimento analitico financial literacy” di OCSE 2013</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le </a:t>
            </a:r>
            <a:r>
              <a:rPr b="1" lang="it-IT" sz="1200" spc="-1" strike="noStrike">
                <a:solidFill>
                  <a:srgbClr val="000000"/>
                </a:solidFill>
                <a:latin typeface="Tw Cen MT"/>
              </a:rPr>
              <a:t>competenze chiave di cittadinanza</a:t>
            </a:r>
            <a:r>
              <a:rPr b="0" lang="it-IT" sz="1200" spc="-1" strike="noStrike">
                <a:solidFill>
                  <a:srgbClr val="000000"/>
                </a:solidFill>
                <a:latin typeface="Tw Cen MT"/>
              </a:rPr>
              <a:t> del DM 139/2007.</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300"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302" name=""/>
          <p:cNvSpPr txBox="1"/>
          <p:nvPr/>
        </p:nvSpPr>
        <p:spPr>
          <a:xfrm>
            <a:off x="539280" y="1628280"/>
            <a:ext cx="8153640" cy="449604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w Cen MT"/>
              </a:rPr>
              <a:t>Considerazioni generali </a:t>
            </a:r>
            <a:endParaRPr b="0" lang="en-US" sz="1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Sono state usate: </a:t>
            </a:r>
            <a:endParaRPr b="0" lang="en-US" sz="1200" spc="-1" strike="noStrike">
              <a:solidFill>
                <a:srgbClr val="000000"/>
              </a:solidFill>
              <a:latin typeface="Tw Cen MT"/>
            </a:endParaRPr>
          </a:p>
          <a:p>
            <a:pPr>
              <a:lnSpc>
                <a:spcPct val="2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pratiche didattiche integrate</a:t>
            </a:r>
            <a:r>
              <a:rPr b="0" lang="it-IT" sz="1200" spc="-1" strike="noStrike">
                <a:solidFill>
                  <a:srgbClr val="000000"/>
                </a:solidFill>
                <a:latin typeface="Tw Cen MT"/>
              </a:rPr>
              <a:t>: docenti CPIA, Docenti A45 e A46, esperti esterni ed istituzioni finanziarie</a:t>
            </a:r>
            <a:endParaRPr b="0" lang="en-US" sz="1200" spc="-1" strike="noStrike">
              <a:solidFill>
                <a:srgbClr val="000000"/>
              </a:solidFill>
              <a:latin typeface="Tw Cen MT"/>
            </a:endParaRPr>
          </a:p>
          <a:p>
            <a:pPr>
              <a:lnSpc>
                <a:spcPct val="2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metodologie e tecniche interattivo-attive, innovative e integrate </a:t>
            </a:r>
            <a:r>
              <a:rPr b="0" lang="it-IT" sz="1200" spc="-1" strike="noStrike">
                <a:solidFill>
                  <a:srgbClr val="000000"/>
                </a:solidFill>
                <a:latin typeface="Tw Cen MT"/>
              </a:rPr>
              <a:t>come ad esempio: didattica laboratoriale; </a:t>
            </a:r>
            <a:r>
              <a:rPr b="0" i="1" lang="it-IT" sz="1200" spc="-1" strike="noStrike">
                <a:solidFill>
                  <a:srgbClr val="000000"/>
                </a:solidFill>
                <a:latin typeface="Tw Cen MT"/>
              </a:rPr>
              <a:t>piazza del sapere; brain storming ...</a:t>
            </a: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Sono state elaborate </a:t>
            </a:r>
            <a:r>
              <a:rPr b="1" lang="it-IT" sz="1200" spc="-1" strike="noStrike">
                <a:solidFill>
                  <a:srgbClr val="000000"/>
                </a:solidFill>
                <a:latin typeface="Tw Cen MT"/>
              </a:rPr>
              <a:t>rubriche e griglie per la valutazione e modalità di certificazion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303"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305" name=""/>
          <p:cNvSpPr txBox="1"/>
          <p:nvPr/>
        </p:nvSpPr>
        <p:spPr>
          <a:xfrm>
            <a:off x="539280" y="1628280"/>
            <a:ext cx="8153640" cy="4496040"/>
          </a:xfrm>
          <a:prstGeom prst="rect">
            <a:avLst/>
          </a:prstGeom>
          <a:noFill/>
          <a:ln w="0">
            <a:noFill/>
          </a:ln>
        </p:spPr>
        <p:txBody>
          <a:bodyPr anchor="t">
            <a:normAutofit fontScale="85000"/>
          </a:bodyPr>
          <a:p>
            <a:pPr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w Cen MT"/>
              </a:rPr>
              <a:t>Considerazioni generali </a:t>
            </a:r>
            <a:endParaRPr b="0" lang="en-US" sz="18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Nel corso delle tre edizioni sono stati: </a:t>
            </a:r>
            <a:endParaRPr b="0" lang="en-US" sz="1200" spc="-1" strike="noStrike">
              <a:solidFill>
                <a:srgbClr val="000000"/>
              </a:solidFill>
              <a:latin typeface="Tw Cen MT"/>
            </a:endParaRPr>
          </a:p>
          <a:p>
            <a:pPr>
              <a:lnSpc>
                <a:spcPct val="2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Tw Cen MT"/>
              </a:rPr>
              <a:t>alfabetizzati migliaia di adulti in tutta Italia</a:t>
            </a:r>
            <a:r>
              <a:rPr b="1" lang="it-IT" sz="1200" spc="-1" strike="noStrike">
                <a:solidFill>
                  <a:srgbClr val="000000"/>
                </a:solidFill>
                <a:latin typeface="Tw Cen MT"/>
              </a:rPr>
              <a:t>;</a:t>
            </a:r>
            <a:endParaRPr b="0" lang="en-US" sz="1200" spc="-1" strike="noStrike">
              <a:solidFill>
                <a:srgbClr val="000000"/>
              </a:solidFill>
              <a:latin typeface="Tw Cen MT"/>
            </a:endParaRPr>
          </a:p>
          <a:p>
            <a:pPr>
              <a:lnSpc>
                <a:spcPct val="2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costituiti partenariati stabili</a:t>
            </a:r>
            <a:r>
              <a:rPr b="0" lang="it-IT" sz="1200" spc="-1" strike="noStrike">
                <a:solidFill>
                  <a:srgbClr val="000000"/>
                </a:solidFill>
                <a:latin typeface="Tw Cen MT"/>
              </a:rPr>
              <a:t> sui territori con i soggetti istituzionali individuati: Banca d’Italia, Feduf, Consob, MDR …</a:t>
            </a:r>
            <a:endParaRPr b="0" lang="en-US" sz="1200" spc="-1" strike="noStrike">
              <a:solidFill>
                <a:srgbClr val="000000"/>
              </a:solidFill>
              <a:latin typeface="Tw Cen MT"/>
            </a:endParaRPr>
          </a:p>
          <a:p>
            <a:pPr>
              <a:lnSpc>
                <a:spcPct val="2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elaborati materiali specifici capitalizzabili</a:t>
            </a: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l Progetto ha meritato </a:t>
            </a:r>
            <a:r>
              <a:rPr b="1" lang="it-IT" sz="1200" spc="-1" strike="noStrike">
                <a:solidFill>
                  <a:srgbClr val="000000"/>
                </a:solidFill>
                <a:latin typeface="Tw Cen MT"/>
              </a:rPr>
              <a:t>l’attenzione del Comitato per la programmazione e il coordinamento delle attività di Educazione finanziaria.</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306"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66" name=""/>
          <p:cNvSpPr txBox="1"/>
          <p:nvPr/>
        </p:nvSpPr>
        <p:spPr>
          <a:xfrm>
            <a:off x="539280" y="1628280"/>
            <a:ext cx="8153640" cy="4496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ITER PROGETTO </a:t>
            </a:r>
            <a:endParaRPr b="0" lang="en-US" sz="1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nota prot. n. 21310 del 20 dicembre 2018, ad esito dell’incontro del 14 dicembre 2018</a:t>
            </a:r>
            <a:r>
              <a:rPr b="0" lang="it-IT" sz="1200" spc="-1" strike="noStrike">
                <a:solidFill>
                  <a:srgbClr val="000000"/>
                </a:solidFill>
                <a:latin typeface="Tw Cen MT"/>
              </a:rPr>
              <a:t> e successive interlocuzioni, </a:t>
            </a:r>
            <a:r>
              <a:rPr b="1" lang="it-IT" sz="1200" spc="-1" strike="noStrike">
                <a:solidFill>
                  <a:srgbClr val="000000"/>
                </a:solidFill>
                <a:latin typeface="Tw Cen MT"/>
              </a:rPr>
              <a:t>la DGOSV ha richiamato agli Uffici Scolastici Regionali </a:t>
            </a:r>
            <a:r>
              <a:rPr b="0" lang="it-IT" sz="1200" spc="-1" strike="noStrike">
                <a:solidFill>
                  <a:srgbClr val="000000"/>
                </a:solidFill>
                <a:latin typeface="Tw Cen MT"/>
              </a:rPr>
              <a:t>le decisioni assunte in occasione dell’incontro medesimo. In particolare è stato precisato che l’USR per la Toscana provvederà ad inviare all’USR per l’Emilia Romagna entro il 27 dicembre 2018 una nota integrativa relativa ai criteri utilizzati per la modifica delle conoscenze e abilità delle cinque UDA presenti nelle Linee Guida del progetto Edufin CPIA  a.s. 2018/2019</a:t>
            </a:r>
            <a:r>
              <a:rPr b="1" lang="it-IT" sz="1200" spc="-1" strike="noStrike">
                <a:solidFill>
                  <a:srgbClr val="000000"/>
                </a:solidFill>
                <a:latin typeface="Tw Cen MT"/>
              </a:rPr>
              <a:t>, nonché all’attivazione di un’apposita sezione del Monitoraggio on-line,</a:t>
            </a:r>
            <a:r>
              <a:rPr b="0" lang="it-IT" sz="1200" spc="-1" strike="noStrike">
                <a:solidFill>
                  <a:srgbClr val="000000"/>
                </a:solidFill>
                <a:latin typeface="Tw Cen MT"/>
              </a:rPr>
              <a:t> funzionale a favorire la rilevazione dei dati contenuti nelle rubriche di valutazione delle Linee guida medesime; l’USR per l’Emilia Romagna provvederà ad inviare all’Ufficio VI entro il 28 dicembre 2018 la versione così perfezionata della bozza delle Linee Guida già presentata in occasione dell’incontro del 14 dicembre 2018.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nota prot. n. 1149 del 18 gennaio 2019 la DGOSV ha comunicato agli UUSSRR l’avvio della III Annualità del Progetto “EDUFIN-CPIA” e trasmesso le Linee Guida della III Edizione (a.s. 2018/2019).</a:t>
            </a:r>
            <a:r>
              <a:rPr b="0" lang="it-IT" sz="1200" spc="-1" strike="noStrike">
                <a:solidFill>
                  <a:srgbClr val="000000"/>
                </a:solidFill>
                <a:latin typeface="Tw Cen MT"/>
              </a:rPr>
              <a:t> Alle Linee Guida sono, altresì, </a:t>
            </a:r>
            <a:r>
              <a:rPr b="1" lang="it-IT" sz="1200" spc="-1" strike="noStrike">
                <a:solidFill>
                  <a:srgbClr val="000000"/>
                </a:solidFill>
                <a:latin typeface="Tw Cen MT"/>
              </a:rPr>
              <a:t>allegati il monitoraggio relativo alla seconda annualità</a:t>
            </a:r>
            <a:r>
              <a:rPr b="0" lang="it-IT" sz="1200" spc="-1" strike="noStrike">
                <a:solidFill>
                  <a:srgbClr val="000000"/>
                </a:solidFill>
                <a:latin typeface="Tw Cen MT"/>
              </a:rPr>
              <a:t> e il documento metodologico relativo all'aggiornamento delle conoscenze e abilità delle unità di apprendimento, redatti dall'Ufficio Scolastico Regionale per la Toscana. </a:t>
            </a:r>
            <a:r>
              <a:rPr b="1" lang="it-IT" sz="1200" spc="-1" strike="noStrike">
                <a:solidFill>
                  <a:srgbClr val="000000"/>
                </a:solidFill>
                <a:latin typeface="Tw Cen MT"/>
              </a:rPr>
              <a:t>Dal </a:t>
            </a:r>
            <a:r>
              <a:rPr b="0" lang="it-IT" sz="1200" spc="-1" strike="noStrike">
                <a:solidFill>
                  <a:srgbClr val="000000"/>
                </a:solidFill>
                <a:latin typeface="Tw Cen MT"/>
              </a:rPr>
              <a:t>suddetto </a:t>
            </a:r>
            <a:r>
              <a:rPr b="1" lang="it-IT" sz="1200" spc="-1" strike="noStrike">
                <a:solidFill>
                  <a:srgbClr val="000000"/>
                </a:solidFill>
                <a:latin typeface="Tw Cen MT"/>
              </a:rPr>
              <a:t>monitoraggio, in particolare, risulta che nell'a.s. 2017/2018 hanno partecipato al Progetto tutti gli Uffici Scolastici Regionali con 97 CPIA, per un totale di 2.223 corsisti, con un netto incremento rispetto all'a.s. 2016/2017</a:t>
            </a:r>
            <a:r>
              <a:rPr b="0" lang="it-IT" sz="1200" spc="-1" strike="noStrike">
                <a:solidFill>
                  <a:srgbClr val="000000"/>
                </a:solidFill>
                <a:latin typeface="Tw Cen MT"/>
              </a:rPr>
              <a:t>. Nella terza annualità si prevede la partecipazione di tutti gli Uffici Scolastici Regionali con 86 CPIA. La circolare e i relativi allegati sono pubblicati sul sito del MIUR al link:</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u="sng">
                <a:solidFill>
                  <a:srgbClr val="f7b615"/>
                </a:solidFill>
                <a:uFillTx/>
                <a:latin typeface="Tw Cen MT"/>
                <a:hlinkClick r:id="rId1"/>
              </a:rPr>
              <a:t>https://www.miur.gov.it/web/guest/news/-/asset_publisher/ubIwoWFcqWhG/content/istruzione-degli-adulti-e-apprendimento-permanente-avvio-iii-annualita-del-progetto-edufincpia-trasmissione-linee-guida-iii-edizione-a-s-2018-20-1?inheritRedirect=false&amp;redirect=https%3A%2F%2Fwww.miur.gov.it%3A443%2Fweb%2Fguest%2Fnews%3Fp_p_id%3D101_INSTANCE_ubIwoWFcqWhG%26p_p_lifecycle%3D0%26p_p_state%3Dnormal%26p_p_mode%3Dview%26p_p_col_id%3Dcolumn-2%26p_p_col_count%3D1%26p_r_p_564233524_categoryId%3D8868460%26p_r_p_564233524_resetCur%3Dtrue</a:t>
            </a:r>
            <a:endParaRPr b="0" lang="en-US" sz="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267"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6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69" name=""/>
          <p:cNvSpPr txBox="1"/>
          <p:nvPr/>
        </p:nvSpPr>
        <p:spPr>
          <a:xfrm>
            <a:off x="539280" y="1628280"/>
            <a:ext cx="8153640" cy="449604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ITER PROGETTO </a:t>
            </a:r>
            <a:endParaRPr b="0" lang="en-US" sz="1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il decreto n. 98 del 7 febbraio 2019, </a:t>
            </a:r>
            <a:r>
              <a:rPr b="0" lang="it-IT" sz="1200" spc="-1" strike="noStrike">
                <a:solidFill>
                  <a:srgbClr val="000000"/>
                </a:solidFill>
                <a:latin typeface="Tw Cen MT"/>
              </a:rPr>
              <a:t>emanato ai sensi dell’art. 4, comma 3 del DM 721/2018,</a:t>
            </a:r>
            <a:r>
              <a:rPr b="1" lang="it-IT" sz="1200" spc="-1" strike="noStrike">
                <a:solidFill>
                  <a:srgbClr val="000000"/>
                </a:solidFill>
                <a:latin typeface="Tw Cen MT"/>
              </a:rPr>
              <a:t> sono state individuate le specifiche tecniche per la promozione dell’educazione finanziaria per gli adulti attraverso la prosecuzione delle attività relative al Progetto EDUFIN-CPIA (art. 3) e i criteri per il riparto delle somme fra i CPIA aderenti (art.5, comma 5).</a:t>
            </a: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nota prot. n. 5231 del 29 aprile 2019 l’USR per la Toscana – Ufficio III ha trasmesso ai DS dei CPIA aderenti al Progetto Edufin III Edizione </a:t>
            </a:r>
            <a:r>
              <a:rPr b="0" lang="it-IT" sz="1200" spc="-1" strike="noStrike">
                <a:solidFill>
                  <a:srgbClr val="000000"/>
                </a:solidFill>
                <a:latin typeface="Tw Cen MT"/>
              </a:rPr>
              <a:t>e, p.c. alla DGOSV</a:t>
            </a:r>
            <a:r>
              <a:rPr b="1" lang="it-IT" sz="1200" spc="-1" strike="noStrike">
                <a:solidFill>
                  <a:srgbClr val="000000"/>
                </a:solidFill>
                <a:latin typeface="Tw Cen MT"/>
              </a:rPr>
              <a:t> il link al quale accedere per la compilazione del monitoraggio</a:t>
            </a:r>
            <a:r>
              <a:rPr b="1" lang="it-IT" sz="1200" spc="-1" strike="noStrike" u="sng">
                <a:solidFill>
                  <a:srgbClr val="000000"/>
                </a:solidFill>
                <a:uFillTx/>
                <a:latin typeface="Tw Cen MT"/>
              </a:rPr>
              <a:t> in itinere</a:t>
            </a:r>
            <a:r>
              <a:rPr b="0" lang="it-IT" sz="1200" spc="-1" strike="noStrike" u="sng">
                <a:solidFill>
                  <a:srgbClr val="000000"/>
                </a:solidFill>
                <a:uFillTx/>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nota prot. n. 15585 dell’11 luglio 2019 la DGOSV ha confermato l’incontro del Gruppo di Lavoro Nazionale P.A.I.DE.I.A.,</a:t>
            </a:r>
            <a:r>
              <a:rPr b="0" lang="it-IT" sz="1200" spc="-1" strike="noStrike">
                <a:solidFill>
                  <a:srgbClr val="000000"/>
                </a:solidFill>
                <a:latin typeface="Tw Cen MT"/>
              </a:rPr>
              <a:t> già previsto per il 23 luglio 2019, </a:t>
            </a:r>
            <a:r>
              <a:rPr b="1" lang="it-IT" sz="1200" spc="-1" strike="noStrike">
                <a:solidFill>
                  <a:srgbClr val="000000"/>
                </a:solidFill>
                <a:latin typeface="Tw Cen MT"/>
              </a:rPr>
              <a:t>e dato informazioni circa le tematiche oggetto dell’incontro, concernenti, fra l’altro, il Progetto EDUFIN CPIA, </a:t>
            </a:r>
            <a:r>
              <a:rPr b="0" lang="it-IT" sz="1200" spc="-1" strike="noStrike">
                <a:solidFill>
                  <a:srgbClr val="000000"/>
                </a:solidFill>
                <a:latin typeface="Tw Cen MT"/>
              </a:rPr>
              <a:t>in particolare: le previsioni normative di cui all’articolo 3 del decreto dipartimentale n. 98 del 7 febbraio 2019 (trasmesso con la citata nota DGOSV n.2474 dell’8 febbraio 2019), </a:t>
            </a:r>
            <a:r>
              <a:rPr b="1" lang="it-IT" sz="1200" spc="-1" strike="noStrike">
                <a:solidFill>
                  <a:srgbClr val="000000"/>
                </a:solidFill>
                <a:latin typeface="Tw Cen MT"/>
              </a:rPr>
              <a:t>con particolare riguardo all’analisi delle specifiche tecniche per la realizzazione delle attività e il relativo monitoraggio; la presentazione dei primi dati relativi al monitoraggio del progetto EDUFIN-CPIA III Edizione, a cura dell’USR Toscana.</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nota prot. n. 9608 del 31 luglio 2019 l’USR per la Toscana – Ufficio III ha trasmesso il Report sintetico del Monitoraggio Intermedio Aprile 2019 - Luglio 2019 del Progetto Edufin CPIA  III</a:t>
            </a:r>
            <a:r>
              <a:rPr b="0" lang="it-IT" sz="1200" spc="-1" strike="noStrike">
                <a:solidFill>
                  <a:srgbClr val="000000"/>
                </a:solidFill>
                <a:latin typeface="Tw Cen MT"/>
              </a:rPr>
              <a:t> </a:t>
            </a:r>
            <a:r>
              <a:rPr b="1" lang="it-IT" sz="1200" spc="-1" strike="noStrike">
                <a:solidFill>
                  <a:srgbClr val="000000"/>
                </a:solidFill>
                <a:latin typeface="Tw Cen MT"/>
              </a:rPr>
              <a:t>Edizion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Con comunicazione del 5 settembre 2019 il coordinatore del Progetto Edufin CPIA ha trasmesso alla  coordinatrice del Comitato per l’Educazione Finanziaria la citata nota prot. n. 1149 del 18 gennaio 2019 con cui è stato dato avvio al Progetto Edufin CPIA III Edizione, le relative Linee guida Edufin, il Monitoraggio del Progetto EDUFIN CPIA 2017/2018 e il documento “Elaborazione Soglie per emendamento voci relative a conoscenze e abilità UDA” che illustra le modalità con cui sono state calcolate le diverse soglie di validità delle conoscenze e delle abilità delle UDA svolte nel percorso didattico formativo del progetto EDUFINCPIA, tramite le quali si è deciso quali conoscenze e abilità eventualmente emendar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
        <p:nvSpPr>
          <p:cNvPr id="270"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72" name=""/>
          <p:cNvSpPr txBox="1"/>
          <p:nvPr/>
        </p:nvSpPr>
        <p:spPr>
          <a:xfrm>
            <a:off x="539280" y="1628280"/>
            <a:ext cx="8153640" cy="4496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ITER PROGETTO </a:t>
            </a:r>
            <a:endParaRPr b="0" lang="en-US" sz="1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Con nota prot. n. 19955 del 25 settembre 2019 ad esito dell’incontro del 23 luglio 2019, la DGOSV ha richiamato agli Uffici Scolastici Regionali le decisioni assunte e trasmesso le presentazioni dei relatori intervenuti all’incontro medesimo. In particolare sono state trasmesse le slide contenenti i dati dei monitoraggi intermedi della terza edizione del Progetto EDUFIN, effettuati nei mesi di aprile e luglio 2019.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comunicazione del 31 ottobre 2019 il coordinatore del Gruppo di Lavoro Nazionale P.A.I.DE.I.A., </a:t>
            </a:r>
            <a:r>
              <a:rPr b="0" lang="it-IT" sz="1200" spc="-1" strike="noStrike">
                <a:solidFill>
                  <a:srgbClr val="000000"/>
                </a:solidFill>
                <a:latin typeface="Tw Cen MT"/>
              </a:rPr>
              <a:t>ai sensi di quanto previsto nel cronoprogramma presente nelle linee guida elaborate dal Gruppo Nazionale PAIDEIA e nel D.D. n 98 del 07/02/2019,</a:t>
            </a:r>
            <a:r>
              <a:rPr b="1" lang="it-IT" sz="1200" spc="-1" strike="noStrike">
                <a:solidFill>
                  <a:srgbClr val="000000"/>
                </a:solidFill>
                <a:latin typeface="Tw Cen MT"/>
              </a:rPr>
              <a:t> ha inviato ai CPIA partecipanti al Progetto EDUFIN III il link al quale accedere per la compilazione del monitoraggio, con scadenza  lunedì 11 novembre 2019.</a:t>
            </a:r>
            <a:endParaRPr b="0" lang="en-US" sz="1200" spc="-1" strike="noStrike">
              <a:solidFill>
                <a:srgbClr val="000000"/>
              </a:solidFill>
              <a:latin typeface="Tw Cen MT"/>
            </a:endParaRPr>
          </a:p>
        </p:txBody>
      </p:sp>
      <p:sp>
        <p:nvSpPr>
          <p:cNvPr id="273"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75" name=""/>
          <p:cNvSpPr txBox="1"/>
          <p:nvPr/>
        </p:nvSpPr>
        <p:spPr>
          <a:xfrm>
            <a:off x="539280" y="1628280"/>
            <a:ext cx="8153640" cy="4496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ESITI</a:t>
            </a:r>
            <a:r>
              <a:rPr b="0" lang="it-IT" sz="1200" spc="-1" strike="noStrike">
                <a:solidFill>
                  <a:srgbClr val="000000"/>
                </a:solidFill>
                <a:latin typeface="Tw Cen MT"/>
              </a:rPr>
              <a:t> </a:t>
            </a:r>
            <a:endParaRPr b="0" lang="en-US" sz="1200" spc="-1" strike="noStrike">
              <a:solidFill>
                <a:srgbClr val="000000"/>
              </a:solidFill>
              <a:latin typeface="Tw Cen MT"/>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l presente report è stato elaborato dall’USR Lombardia nella persona del prof. Corrado Cosenza, in collaborazione con il DS  Goffredo Manzo, su indicazione del Coordinatore del Gruppo nazionale PAIDEIA.</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Per la raccolta dei dati è stato creato un Modulo di Google ad accesso dedicato. Sono stati erogati tre monitoraggi distribuiti nei seguenti intervalli temporali come previsto nel cronoprogramma presente nelle linee guida elaborate dal Gruppo Nazionale PAIDEIA e nel D.D. n 98 del 07/02/2019:</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Aprile 2019 (dal 29 Aprile al 6 Maggio)</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Luglio 2019 (dall’ 8 Luglio al 17 Luglio)</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Novembre 2019 (dal 31 Ottobre al 20 Novembr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 dati riguardano la realizzazione del Progetto Edufin-CPIA III edizione a.s. 2018/19.</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Sono state prese in considerazione le risposte dei monitoraggi chiusi a  luglio e novembre 2019 </a:t>
            </a:r>
            <a:endParaRPr b="0" lang="en-US" sz="1200" spc="-1" strike="noStrike">
              <a:solidFill>
                <a:srgbClr val="000000"/>
              </a:solidFill>
              <a:latin typeface="Tw Cen MT"/>
            </a:endParaRPr>
          </a:p>
        </p:txBody>
      </p:sp>
      <p:sp>
        <p:nvSpPr>
          <p:cNvPr id="276"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78" name=""/>
          <p:cNvSpPr txBox="1"/>
          <p:nvPr/>
        </p:nvSpPr>
        <p:spPr>
          <a:xfrm>
            <a:off x="539280" y="1628280"/>
            <a:ext cx="8153640" cy="449604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ESITI</a:t>
            </a:r>
            <a:r>
              <a:rPr b="0" lang="it-IT" sz="1200" spc="-1" strike="noStrike">
                <a:solidFill>
                  <a:srgbClr val="000000"/>
                </a:solidFill>
                <a:latin typeface="Tw Cen MT"/>
              </a:rPr>
              <a:t> </a:t>
            </a:r>
            <a:endParaRPr b="0" lang="en-US" sz="1200" spc="-1" strike="noStrike">
              <a:solidFill>
                <a:srgbClr val="000000"/>
              </a:solidFill>
              <a:latin typeface="Tw Cen MT"/>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Di seguito le casistiche di risposte dei monitoraggi di Luglio e Novembr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Nella tabella sono riportate le risposte relative alla domanda: </a:t>
            </a:r>
            <a:r>
              <a:rPr b="1" i="1" lang="it-IT" sz="1200" spc="-1" strike="noStrike">
                <a:solidFill>
                  <a:srgbClr val="000000"/>
                </a:solidFill>
                <a:latin typeface="Tw Cen MT"/>
              </a:rPr>
              <a:t>Sono stati attivati i corsi di alfabetizzazione finanziaria così come previsto dall'art. 3 comma 4 del D.D. 98 del 08/02/2019?</a:t>
            </a: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
        <p:nvSpPr>
          <p:cNvPr id="279"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pic>
        <p:nvPicPr>
          <p:cNvPr id="280" name="Immagine 1" descr=""/>
          <p:cNvPicPr/>
          <p:nvPr/>
        </p:nvPicPr>
        <p:blipFill>
          <a:blip r:embed="rId1"/>
          <a:stretch/>
        </p:blipFill>
        <p:spPr>
          <a:xfrm>
            <a:off x="2268360" y="3213000"/>
            <a:ext cx="5328000" cy="266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82" name=""/>
          <p:cNvSpPr txBox="1"/>
          <p:nvPr/>
        </p:nvSpPr>
        <p:spPr>
          <a:xfrm>
            <a:off x="539280" y="1628280"/>
            <a:ext cx="8153640" cy="4496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ESITI</a:t>
            </a:r>
            <a:endParaRPr b="0" lang="en-US" sz="1200" spc="-1" strike="noStrike">
              <a:solidFill>
                <a:srgbClr val="000000"/>
              </a:solidFill>
              <a:latin typeface="Tw Cen MT"/>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Se si volessero prendere in esame le sole risposte del monitoraggio conclusivo avremmo i seguenti esiti:</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
        <p:nvSpPr>
          <p:cNvPr id="283"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pic>
        <p:nvPicPr>
          <p:cNvPr id="284" name="Immagine 2" descr=""/>
          <p:cNvPicPr/>
          <p:nvPr/>
        </p:nvPicPr>
        <p:blipFill>
          <a:blip r:embed="rId1"/>
          <a:stretch/>
        </p:blipFill>
        <p:spPr>
          <a:xfrm>
            <a:off x="1116000" y="3429000"/>
            <a:ext cx="6210360" cy="1612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86" name=""/>
          <p:cNvSpPr txBox="1"/>
          <p:nvPr/>
        </p:nvSpPr>
        <p:spPr>
          <a:xfrm>
            <a:off x="539280" y="1628280"/>
            <a:ext cx="8153640" cy="449604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ESITI</a:t>
            </a:r>
            <a:endParaRPr b="0" lang="en-US" sz="1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
        <p:nvSpPr>
          <p:cNvPr id="287"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
        <p:nvSpPr>
          <p:cNvPr id="288" name="Rettangolo 1"/>
          <p:cNvSpPr/>
          <p:nvPr/>
        </p:nvSpPr>
        <p:spPr>
          <a:xfrm>
            <a:off x="1042920" y="2133720"/>
            <a:ext cx="7058160" cy="25628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Il monitoraggio, così come compilato (o non compilato), non soddisfa completamente i criteri di coerenza, attendibilità e rappresentatività dei dati propri dei monitoraggi di qualità.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90" name=""/>
          <p:cNvSpPr txBox="1"/>
          <p:nvPr/>
        </p:nvSpPr>
        <p:spPr>
          <a:xfrm>
            <a:off x="539280" y="1628280"/>
            <a:ext cx="8153640" cy="4496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ESITI</a:t>
            </a:r>
            <a:endParaRPr b="0" lang="en-US" sz="1600" spc="-1" strike="noStrike">
              <a:solidFill>
                <a:srgbClr val="000000"/>
              </a:solidFill>
              <a:latin typeface="Tw Cen MT"/>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Possibili azioni future</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Nuova apertura del monitoraggio</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Obbligo di risposta e quindi impossibilità da parte dei CPIA di inviare il monitoraggio nel caso in cui non siano state compilate tutte le risposte</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nvio della scheda di monitoraggio in automatico all’amministratore (USR Lombardia) ed alle e-mail istituzionali dei referenti regionali UUSSRR.</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 tempi previsti per il nuovo monitoraggio potrebbero essere dal 15 dicembre 2019 al 15 gennaio 2020.</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
        <p:nvSpPr>
          <p:cNvPr id="291"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24T12:17:09Z</dcterms:created>
  <dc:creator>Administrator</dc:creator>
  <dc:description/>
  <dc:language>en-US</dc:language>
  <cp:lastModifiedBy>Testi Paola</cp:lastModifiedBy>
  <cp:lastPrinted>2018-04-09T09:33:13Z</cp:lastPrinted>
  <dcterms:modified xsi:type="dcterms:W3CDTF">2020-10-19T09:13:05Z</dcterms:modified>
  <cp:revision>182</cp:revision>
  <dc:subject/>
  <dc:title>DECRETO DEL PRESIDENTE DELLA REPUBBLICA  29 ottobre 2012 , n. 263</dc:title>
</cp:coreProperties>
</file>